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B044-CC47-40F3-B870-FD1FD554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BFB-9BAE-4EB1-BEC3-7A3FF54F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CB4-49A2-452E-8734-AA53B4F7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51B-6585-45FB-81BF-8D56C5A9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EB8-4C4F-48FE-835F-6DF016F9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6F8-844C-42B7-AFEF-C966B4C3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2D9-AC52-4123-8DB8-28102CA8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EFE-C86F-459A-8013-A9959319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E25-560F-418D-9185-AC65562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D1D-FAEA-42CF-932D-4CDEDCE8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92A-9ADF-455B-A42D-E0A0774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8F4-7096-4668-BDB4-FFD8ADE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645-D596-4DE8-81F9-03A8B8C1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A43-9FE8-4CE9-BF06-7ED84E9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054-88C8-4C5D-A967-AE339FD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20B-171F-45A1-A720-540826E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EB14-4EDF-498B-ADFD-A615F9AC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 in Pre-K at Clinton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her B.S. in Elementary Education from T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vers her love for mentoring young women through  serving with YOKE Youth Ministri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00:44:38Z</dcterms:modified>
  <cp:revision>29</cp:revision>
  <dc:subject/>
  <dc:title>Profile</dc:title>
</cp:coreProperties>
</file>